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33F-0C8F-465F-B7F9-F9163433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D2D-9C6F-48DE-A5CE-207E28A2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C29-D405-41D4-9337-6BB63E9E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AC0-AFE9-4431-9BC0-3E2D837F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64F0-3EB6-4CD2-998F-B60FA66B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1303-6E32-4E18-A833-EDBC4AA2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8769-C583-4296-B520-DD366BAB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67AB-7CCD-4DDC-B4B7-1FE47700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18E3-01E2-4A5C-B869-93433BA7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4854-18BC-4AC4-B928-5F8ADDE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B94F-7203-498C-9861-FB88F1B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E43-3A0F-4C7B-99F5-D02BABB7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016B-6D35-457F-9CFA-55E6BEDD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707A-0860-41AB-AAB9-DFA552E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C415-94CD-4EAB-B6E2-261B6E58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04D7-5AB8-4000-8E4D-BBD490E1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6E8E-0993-41B4-BA93-BF8AC525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355-2EC5-4C9F-94A6-833F39CA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706-F093-4DD5-9AB3-C6D1892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FF8-7F01-4F39-A1F4-6059107B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8C0-EDFC-45D3-AA6E-0FEF4840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2CF-63D2-43E1-A385-C82B9513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40F-7395-495E-AA13-364F117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9EE-B838-498F-92B5-0DF12DF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EA1-E639-4B98-8E52-3DB1E69FE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F582-E490-4087-BC92-DACEDF3A3D0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9" descr="peasant massacre"/>
          <p:cNvPicPr/>
          <p:nvPr/>
        </p:nvPicPr>
        <p:blipFill>
          <a:blip r:embed="rId1"/>
          <a:stretch/>
        </p:blipFill>
        <p:spPr>
          <a:xfrm>
            <a:off x="5157720" y="907920"/>
            <a:ext cx="3705120" cy="5767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838080" y="1219320"/>
            <a:ext cx="3657600" cy="1630440"/>
          </a:xfrm>
          <a:prstGeom prst="rect">
            <a:avLst/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llri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/1/201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You have the first 5 minutes to answer the ques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304920" y="3962520"/>
            <a:ext cx="8153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happened in the Peasant’s revo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re the Protestants originally?  What does the term Protestant mean now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ace of Augsburg?  Who was involved with 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5-01T11:46:36Z</dcterms:modified>
  <cp:revision>35</cp:revision>
  <dc:subject/>
  <dc:title>Slide 1</dc:title>
</cp:coreProperties>
</file>